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ED8F45-D740-4272-BAA0-67D5706A7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ct answer is x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B38-ED46-4B13-AE06-DCC6E31D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3B6-98B5-4568-8D12-F5DA1F6D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6CD-DD90-4F7E-8FC1-8D18CFA2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406-3C96-471E-90F6-BF27FFB3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4C6-E265-437C-8A18-F79035B5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0B0-480F-4BDB-8DC4-4422ACAB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4AC-947A-41AE-94A1-B066B762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F7C-5055-467B-8713-5F966591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D60-05E5-4AD3-BAC8-145B4786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148-FB6A-451D-997F-B570869B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63F-E68A-48D6-8EEA-6B582F72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7A9-A98B-45A1-AA0F-F4D15A95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C2F4-19E7-45D5-AC11-622CCFE54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4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the sum of two c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a+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b+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=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x+y)(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xy+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ing the difference of two cub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a-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ab+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=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. 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x-y)(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xy+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4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it is more complicated for the difference of two squa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18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y is the G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y(1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9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y(4x-3y)(4x+3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what if cube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-40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CF is 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b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b(a-2b)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ab+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4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in factoring tr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ng 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  )(x+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x+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-   )(x-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-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  )(x-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x-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  )(x-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x+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x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7x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9x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ivide a monomial by a mo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coeffic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quotient rule to divide the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0xy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4191120"/>
            <a:ext cx="1371600" cy="990360"/>
          </a:xfrm>
          <a:prstGeom prst="downArrowCallout">
            <a:avLst>
              <a:gd name="adj1" fmla="val 34627"/>
              <a:gd name="adj2" fmla="val 34624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4876920"/>
            <a:ext cx="3124440" cy="1218960"/>
          </a:xfrm>
          <a:prstGeom prst="leftArrowCallout">
            <a:avLst>
              <a:gd name="adj1" fmla="val 25002"/>
              <a:gd name="adj2" fmla="val 25000"/>
              <a:gd name="adj3" fmla="val 42720"/>
              <a:gd name="adj4" fmla="val 675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5257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acto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ng is the reverse of multi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* 2 = 12 (multi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= 6 * 2 (facto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and 2 are factors of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lso factor using the reverse of the distribu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b+c)=ab+ac (multi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+ac= a(b+c) (facto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ivide a polynomial by a mo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each term of the polynomial by the monomial.  Then combine th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a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+8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a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2   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 by b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set this up like long divisio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+10, divided by x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3048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3352680"/>
          <a:ext cx="300024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52680"/>
                    <a:ext cx="30002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447920" y="4038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+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4495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876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x      +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5257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95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505320"/>
            <a:ext cx="4114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your answer by multiplying the divisor by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+2)(x+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x+5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7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there is a remain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981080"/>
          <a:ext cx="525780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52578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65760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200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2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4648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5486400"/>
            <a:ext cx="556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the remainder in the answer by adding it to the end and dividing it by the divisor---  8/2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1200">
            <a:off x="1066680" y="4038120"/>
            <a:ext cx="3353040" cy="1295640"/>
          </a:xfrm>
          <a:prstGeom prst="rightArrowCallout">
            <a:avLst>
              <a:gd name="adj1" fmla="val 13196"/>
              <a:gd name="adj2" fmla="val 18620"/>
              <a:gd name="adj3" fmla="val 30001"/>
              <a:gd name="adj4" fmla="val 57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029200" y="1752480"/>
            <a:ext cx="1251720" cy="642600"/>
            <a:chOff x="5029200" y="1752480"/>
            <a:chExt cx="1251720" cy="642600"/>
          </a:xfrm>
        </p:grpSpPr>
        <p:sp>
          <p:nvSpPr>
            <p:cNvPr id="119" name=""/>
            <p:cNvSpPr/>
            <p:nvPr/>
          </p:nvSpPr>
          <p:spPr>
            <a:xfrm>
              <a:off x="5333400" y="1752480"/>
              <a:ext cx="94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8  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.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x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29200" y="19051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rot="10800000">
            <a:off x="6324480" y="1143000"/>
            <a:ext cx="1828800" cy="495288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866520 h 4952880"/>
              <a:gd name="textAreaBottom" fmla="*/ 3591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dividend is missing a term? Par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norm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2819520"/>
          <a:ext cx="332424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33242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5146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3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2590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5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1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4876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5x+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5638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1344800">
            <a:off x="5198760" y="2387520"/>
            <a:ext cx="1004760" cy="3749760"/>
          </a:xfrm>
          <a:custGeom>
            <a:avLst/>
            <a:gdLst>
              <a:gd name="textAreaLeft" fmla="*/ 134640 w 1004760"/>
              <a:gd name="textAreaRight" fmla="*/ 870120 w 1004760"/>
              <a:gd name="textAreaTop" fmla="*/ 759600 h 3749760"/>
              <a:gd name="textAreaBottom" fmla="*/ 2615400 h 3749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51" stAng="-5400000" swAng="-5400000"/>
                <a:lnTo>
                  <a:pt x="0" y="10690"/>
                </a:lnTo>
                <a:arcTo wR="21600" hR="8751" stAng="10800000" swAng="-3892356"/>
                <a:lnTo>
                  <a:pt x="17568" y="21446"/>
                </a:lnTo>
                <a:lnTo>
                  <a:pt x="21600" y="18471"/>
                </a:lnTo>
                <a:lnTo>
                  <a:pt x="17568" y="15187"/>
                </a:lnTo>
                <a:lnTo>
                  <a:pt x="17568" y="17347"/>
                </a:lnTo>
                <a:arcTo wR="21600" hR="8751" stAng="6907644" swAng="3737205"/>
                <a:lnTo>
                  <a:pt x="133" y="9720"/>
                </a:lnTo>
                <a:arcTo wR="21600" hR="8751" stAng="-10644849" swAng="5244849"/>
                <a:close/>
              </a:path>
              <a:path fill="darkenLess" w="21600" h="21600">
                <a:moveTo>
                  <a:pt x="21600" y="0"/>
                </a:moveTo>
                <a:arcTo wR="21600" hR="8751" stAng="-5400000" swAng="-5400000"/>
                <a:lnTo>
                  <a:pt x="0" y="8751"/>
                </a:lnTo>
                <a:arcTo wR="21600" hR="8751" stAng="10800000" swAng="-155151"/>
                <a:lnTo>
                  <a:pt x="133" y="9720"/>
                </a:lnTo>
                <a:arcTo wR="21600" hR="8751" stAng="-10644849" swAng="5244849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156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266360" y="2590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571280" y="2590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e terms are ordered from highest degree to lowest degree (ie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x-1, not x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unsure, you can always check your work by multipl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76520" y="2666880"/>
          <a:ext cx="320040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32004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greatest common f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* 6 * x + 6 *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common factor is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using the distributive property, each of the original terms are divided by the greatest common factor (GCF), to determine the terms in the parenth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(2x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o check your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* 2x + 6 *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GCF of a polynom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the largest common numerical factor of 8 and 12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look for the common variable with the largest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2x =  4x * 2x + 4x *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(3x+3)= 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, there is not a common variable, so the GCF will only be a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by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3x(x+y)+2(x+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GC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*(x+y) + 2*(x+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x+2)(x+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by grouping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ax-ay+bx-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common fa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group the terms so that there will be common fa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-ay   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x-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(x-y)    and     b(x-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(x-y)+b(x-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b)(x-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w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8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ab+9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5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a(a-2b)+3(a-2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y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ing the difference of two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remember that when you multiply (a+b)(a-b), the result is the difference of two squares,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2971800"/>
          <a:ext cx="542916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54291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6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04:46Z</dcterms:created>
  <dc:creator>nuhs</dc:creator>
  <dc:description/>
  <dc:language>en-US</dc:language>
  <cp:lastModifiedBy>nuhs</cp:lastModifiedBy>
  <dcterms:modified xsi:type="dcterms:W3CDTF">2007-09-14T17:00:07Z</dcterms:modified>
  <cp:revision>2</cp:revision>
  <dc:subject/>
  <dc:title>Algebra 2A</dc:title>
</cp:coreProperties>
</file>